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C8F-68E4-48A8-8381-1F9A3EA4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C21-FD0E-48E1-B8C8-D2FB6030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B1491-5416-4C99-896E-6664777B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9B11E2-70C4-4340-ADF2-0607928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92452E-522C-4F32-85BC-E63D4DE0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D7564-71C2-435C-8356-429EA8B2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C463F-A6F3-40B2-BF3F-6AF8197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FE1DC-384F-48EB-90B7-399CEC0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21ED4-E656-4E8F-9A01-38EA07DF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BD0D2B-2DA8-4496-9FE6-03A53846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2F495-D025-4E6E-9112-B913C132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E84F1-1697-4721-BD5A-B73A207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0CE-8025-4A33-A23D-334B9A64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29008-2A23-408E-9DCA-A8A323D3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D18DC-464C-43BF-A703-F3DEB28B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AE2AD-3106-456D-9B12-9BA7D76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D000-7CAA-4696-9D04-1C121AD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DC375-F33A-4479-800A-6AB07C13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40A1A-116F-4E5A-A1E0-D04B71D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4E1D1-42F8-4608-A06A-CDCEE62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9D7D0-116A-4133-8903-01E75D0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30192-2ED3-442B-972B-0807E686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BCF3C-8C56-4CB3-B24C-F587C7BE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F54-A0A3-4D9E-9BE6-325B240F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B1B1A-9998-4475-9DFC-B5788839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AD03E6-C364-4E14-9921-791A461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BAAA8A-770D-4613-867C-56E4E69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1FABAC-AD76-40A8-B2A4-DA1B2C01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46E81F-D052-485C-993A-9C2EB504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EC18F9-B136-45EF-8F31-70F18613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DB00A-A8A7-4ED4-91EF-23E20B8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CE7B2D-9BDA-4FD6-A60F-D1546CA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938BBE-E2EC-4727-852D-CF500644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E34A18-9D03-4217-A78D-7EC4BD9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664B-8326-4116-A022-DD14552C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57B444-F753-4866-A5B4-02DFCCF2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03ECBF-8295-4A32-A449-88193080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DD2FC6-6152-4CFF-B4C2-782925E2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DED07-6651-42D0-B15F-CA7EBA63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C3351-CFB9-4591-8840-F4807E16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CC562-CE52-4D5D-BB95-F7557E10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DE219-F4B5-479D-A592-62F9F5FD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A79C-A4BB-4411-BF06-5B0F8BB9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67194-4929-4AF3-A783-1B1F444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4E85-E405-497D-99FF-4CD582D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62C9-37E8-44C9-B519-1873373B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39192-FD5B-40F1-AFDD-EEEA4285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0DF7D-6990-417E-BC79-874D0A1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8F846-4AC1-4EA1-BC28-8729A4A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E01EA-E09F-4EA2-9759-B58F0089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A6133-974A-47C9-B799-C6695540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823C5-4816-4218-B9B1-1E1EE90A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811C0-98C9-4884-9BFE-45D68462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5D9B3-2C06-4F78-9507-62FD7A9B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508D7-A53E-42AF-A3E5-9D9448E8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66A28-4B48-48CB-AF70-C3ACDB77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C3C-9B7C-44F9-8377-AEFBDE6E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96E00-BA5E-47C7-88AB-EFCAB65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F713D-9C2D-4B2B-83DB-BA7648E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A3A35-C266-42B5-9436-C1196A5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65E19-2F54-4738-8D79-73B32BD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9488A-4788-4509-8FA6-EB00D181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72237-1261-4126-8B6C-B03DCA9B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E532D-94C1-4B9C-A2DE-27F8CDEA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7A5DD-0809-4A59-892C-C24A6EAD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09129-6C56-42C2-A5C5-BA3DE79E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036E2-6497-4098-9C05-F0D4E03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5B49-D491-49BA-BCDA-C403C1F2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3094D-FBF4-48B3-BB82-EEB246C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8F8BB-8775-4BF5-AF3A-810B734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BBC17-A919-4991-A022-57ED77FF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E21E3-B8B3-4A9C-A5F5-30359A57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50E52-150D-4061-8C84-CFE9641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10C91-9B84-4023-B283-F48C1CBA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A8AB8-BE58-4AF1-897D-CCCCD6C7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7C383-A4CA-40FA-88BD-F8CDAF52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E4A78-93AE-4D5A-BDD0-1BD9B609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85379-DEAA-4E90-A5D7-C0F9FAE3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4DD7-FD3A-438E-BFA4-E7B3670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0E548-D6DF-4474-AB19-AB7ED538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7B828-AFFC-4FB9-A173-D2719436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85B8B-11AD-4B62-9E2C-F8E656A9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CBD3A-5277-49C7-8A28-268C6B7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3BEBB-5BDE-43FB-A9E6-38F081B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8E527-6FA4-444D-A0EA-9B70A24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91A23-C430-43F2-B433-CA06DC1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9466C-FDC6-4B07-A0A7-6E255AD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8BEC4-03FF-48C7-BDBE-3F07025B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8BB12-C63D-49FE-A0FA-4BDE6DA2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5842-8585-4073-8C0B-DD68F1A1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A8B66-2A9C-4C16-BFF3-439149B2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726D0-9203-4F8F-8A91-0442FA85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A9A6C-E148-4FEB-8F99-4A2E2A1C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AF79B-7D4B-490D-925A-4E916B79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1A05D-D7AE-41D1-85EC-357AA46D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9744A-7C36-4EB3-AF16-935B9EE0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F7F26-A203-421E-9AC2-FDFC5DB0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7CC80-EF7D-45DE-8A80-FA42841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31614-326A-4D03-88A4-BC06FB9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B5DF1-1E54-4311-8C96-4560143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78E0-B808-4832-8455-2D0C842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E44F6-D13D-44DE-844A-090968A3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6F636-ED0D-4155-B5CC-81380177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4EF47-45E7-4534-B07E-C7B1AEF8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D40-91D7-4FAA-96BA-242B213B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B510-028F-4020-9D08-C19CA66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CF39-1AF1-4EF0-BD1F-5C22D22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21F-1723-4199-A46F-73917BFF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42DA-C4BA-4E98-AFCC-45FB0E4D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43B-6257-4A07-968C-3E4F102A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5AD3-45D0-45DE-BCD4-B8CD79EB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2290-0EF0-4D59-9CFC-C19774B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88E8-ECCC-4F8A-8C3C-44AB5878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BF82-CA84-4AD3-BD94-F3817C8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75B1-54AF-4529-8526-47B5339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51D-83F1-4BDF-852D-69F034DC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9BB0-AD5E-4A10-9041-D7169FA3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CF1A-137E-4C86-827E-12B71AA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F8FE-05BC-4C77-B4A1-A11809F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A041-B00D-4F97-BEEA-D8E31BF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FE8A-4F88-4768-931A-A2473EAD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9E93-BC70-4E59-8D57-8A0BBCF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A610-B17E-4397-BF0E-9D7C8EFF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7AED-13ED-4B73-B58F-212BCFC0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A3BB-005C-4E1F-B76C-B74CF1B5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D209-394F-4952-9D09-027E4B6F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1FB-3FFA-4E75-AF9E-939AEB4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27B6-D121-4F18-A415-046BECC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4DB7-3E29-4D40-B476-B3D9F731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E2A2-9DD0-4CD1-B258-0D56A907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399B-93EC-41EA-ACF9-C84202F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67B8-C32D-44FF-AC39-BEC30580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47FC-D6A7-498F-A506-2CA05442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ECE1-1436-4EF3-8232-C6CAE78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213B-40DC-4147-9F7B-010CBAB6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74CA-D8A7-4EF2-9BC5-71058316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1DB3FC-8CE6-4956-A367-EE4C5588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348-D11A-43CE-9634-A204E84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400D0-436B-449C-BD57-6A8383F9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353F91-4FC7-4C3C-A2B8-A25A05E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656E1-AA80-4528-B985-852B84E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B0C0D9-8B16-420C-9FB0-8C875729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3BBF17-F965-49A7-88AE-0776324B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4C02A-04AF-44A6-9AA9-0E871C6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707E19-256A-4992-AF87-5B9F934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FF6436-BB7C-4369-960C-B2AD115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9C23BE-2AEE-4AB7-A913-DC4182F3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E6B8D3-F369-49B5-8F29-50246567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ACB-368C-46F3-BC2D-55766EF4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D3F745-0AC9-4516-888F-F6112030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A003A-9BA4-4FC9-A1E2-9A8117F9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1CE43-6329-4F75-A3CB-CBEEEC5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80FAF-2791-4D32-B90F-31C46155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DDA9-FDD7-4A60-80F0-801F7B6D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039A2-1063-455E-9DB2-9E6AF41D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BDF1-DB69-43B7-BD04-FA83740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D671-72C2-44D9-AA8E-6E491F0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ADB9-E97E-4018-ABB2-4B71C61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A0E7-5FAF-4822-9079-F9A5252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E0A-CFDE-448A-A9E1-B5A4888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518E7-DC9F-4300-BA81-84B5F4F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5364-88F6-430E-8942-186A9A46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BFDB-5CA4-4752-99E8-5A8284B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40FF0-CA78-42D0-9D9B-79DB4F7C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C3C9-4266-4D7B-A0D0-3496CAB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29973-209D-4B1D-9A53-AB0D3017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B6D1-0566-45A8-98B3-8F769C64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C7B55-D032-4AD7-9B1F-FDEDAF4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23A0C-193F-4583-AA51-5EE0ACD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BA156-0BCB-4712-AA65-56CD2C28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E8D-2DB8-4305-977A-875AC43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4DA7-6B98-4E16-B717-3F6ADFE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A872-6887-44FD-8B76-4B9CEA5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B83C-2400-45FE-9717-7B9CCD4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DE4E-A19A-4041-B532-57F0F9C7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0DA3-C0D0-4131-AA2B-DBE25F78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265B7-2E9C-4451-9538-F1F2F074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9110-3EF8-4692-8C68-08AF8DB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A5F5-4975-46D6-A8BC-DFE3029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612DF-D5A1-45D9-A3FE-E2BB10CE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776B2-7186-4BD6-B5EC-D6BDEBB5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D96-33EA-41C5-83B4-C367C97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EAA9-EDB9-4FA6-80BE-55230603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BBA11-7FC1-4B1C-BC1F-8B12CFB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27E88-95DB-49FC-AEE1-49D5E36C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89B8-580D-4C38-A655-86BAA5A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3198E-9567-468E-B4B8-321781F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DFC8-B76F-46C7-A324-0D038A67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EAE1-F60F-4DB9-ABEB-3E65AE75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C6D2AE-CED2-4252-A3E9-97EE20F5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9D9D1C-98AC-439D-9696-5E6A74F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BE3ED-8BE9-4B25-88FF-682518FB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70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75C4-3664-45DD-A55B-D0A171B8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19C1-8941-4214-AE6D-63F9A753D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2B2-1C30-48C5-9D75-A6E640D6293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0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EEEA-0EC0-4D14-BFA3-B6B58F2C851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6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1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2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704F-E73E-40DD-8C59-DB55710552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6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6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12B1-203A-4FD7-9947-0E73533655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C4B0-32BE-40DC-A2F4-81B4FF304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BCE2-FDDE-4AD6-B2F4-F6DA129B9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F41-6C43-4F79-9461-2AF0D3463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58F-FCE3-4BB9-AA03-C09D80FF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F076-D8F4-46F2-97B2-0D7D64EAE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7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749-9AC3-490A-89AC-1E6B65A35C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2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6E8-3729-42EE-8C75-73D6EEFB4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8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DAB-4EF5-4060-A6EE-68ECAF0D37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A1ED-3FB3-4964-ACBA-2050E07A5B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726-D930-44B7-979E-C5E1CA54D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x.kz/" TargetMode="External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5256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Социальный</a:t>
            </a:r>
            <a:r>
              <a:rPr b="1" lang="en-US" sz="6600" spc="-1" strike="noStrike">
                <a:solidFill>
                  <a:srgbClr val="00cc00"/>
                </a:solidFill>
                <a:latin typeface="Arial Black"/>
              </a:rPr>
              <a:t> </a:t>
            </a:r>
            <a:r>
              <a:rPr b="0" lang="en-US" sz="6600" spc="-1" strike="noStrike">
                <a:solidFill>
                  <a:srgbClr val="00cc00"/>
                </a:solidFill>
                <a:latin typeface="Arial Black"/>
              </a:rPr>
              <a:t>налог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1116000" y="476280"/>
          <a:ext cx="22320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6280"/>
                    <a:ext cx="22320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91984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Резюм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Социальный налог, заменил 3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внебюджетных платежа: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Социальное страхование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Обязательное медицинское страхование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Занятость населения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88000" y="1981080"/>
            <a:ext cx="389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Преимуществом социального налога, является то, что он не зависит от форм собственности хозяйствующего субъекта и конечного финансового результата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Методика расчета социального налога производится согласно применениям ставки налога- 11%,  к облагаемому доходу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entury Schoolbook"/>
              </a:rPr>
              <a:t>Список использованных источников</a:t>
            </a:r>
            <a:r>
              <a:rPr b="0" lang="en-US" sz="3600" spc="-1" strike="noStrike">
                <a:solidFill>
                  <a:srgbClr val="006666"/>
                </a:solidFill>
                <a:latin typeface="Century Schoolbook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Налоговый кодекс РК».(10 февраля 2008г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«Налоги и налогообложение в РК» Нурхалиева Д.М., Омирбаев С.М., Омарова Ш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tax.k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Новый «Налоговый Кодекс РК» 2009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8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нятие социального нал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лательщики социального нал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Объекты налогооб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Ставки обложения налог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рядок исчисления и порядок уплаты налога, налоговая деклар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 u="sng">
                <a:solidFill>
                  <a:srgbClr val="ff3300"/>
                </a:solidFill>
                <a:uFillTx/>
                <a:latin typeface="Arial"/>
              </a:rPr>
              <a:t>Социальный налог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50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4800" spc="-1" strike="noStrike">
                <a:solidFill>
                  <a:srgbClr val="85b3b1"/>
                </a:solidFill>
                <a:latin typeface="Estrangelo Edessa"/>
              </a:rPr>
              <a:t>Один из видов прямых налогов, которые уплачивают организации, как работодатели, за своих работник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лательщики социального нало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Индивидуальные предприниматели, за исключением осуществляющих расчеты с бюджета на основе разового тало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астные нотариусы, адвок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Юридические лица – резиденты РК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Нерезиденты, осуществляющих деятельность в РК через постоянн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бъекты налогообло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Расходы работодателя, выплачиваемые работникам – резидентам в виде доход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Доходы иностранного персона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Численность работников, включая самих работни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ffff"/>
                </a:solidFill>
                <a:uFillTx/>
                <a:latin typeface="Arial"/>
              </a:rPr>
              <a:t>Ставки обложения налого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оциальный налог исчисляется по ставке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1 процент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Индивидуальные предприниматели, за исключением применяющих специальные налоговые режимы, частные нотариусы, адвокаты уплачивают социальный налог в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2-кратном размере месячного расчетного показателя,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установленного законом о республиканском бюджете на соответствующий финансовый год, за себя и однократном размере месячного расчетного показателя за каждого работни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пециализированные организации, в которых работают инвалиды с нарушениями опорно-двигательного аппарата, по потере слуха, речи, зрения, уплачивают социальный налог по ставке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4,5 процента.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7958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2900" spc="-1" strike="noStrike" u="sng">
                <a:solidFill>
                  <a:srgbClr val="ff3300"/>
                </a:solidFill>
                <a:uFillTx/>
                <a:latin typeface="Arial Black"/>
              </a:rPr>
              <a:t>Порядок исчисления и порядок уплаты налога, налоговая декларация.</a:t>
            </a:r>
            <a:br>
              <a:rPr sz="4000"/>
            </a:br>
            <a:endParaRPr b="1" lang="en-US" sz="2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Исчисление социального налога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роизводиться ежемесячно с нарастающим итогом в порядке, установленным уполномоченным государственным орга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Уплата социального налога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роизводится не позднее 25 числа месяца, следующего за отчетным месяц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Forte"/>
              </a:rPr>
              <a:t>Декларация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 по социальному налогу предоставляется в налоговые органы ежекварталь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Forte"/>
              </a:rPr>
              <a:t>не позднее 15  числа второго месяца, следующего за отчетным кварта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cc"/>
                </a:solidFill>
                <a:uFillTx/>
                <a:latin typeface="Arial"/>
              </a:rPr>
              <a:t>Плательщиками социального налога являются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Индивидуальные предприниматели, за исключением осуществляющих расчеты с бюджета на основе разового тал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Частные нотариусы, адвок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Юридические лица – резиденты Р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Нерезиденты, осуществляющих деятельность в РК через постоян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все варианты вер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66"/>
                </a:solidFill>
                <a:uFillTx/>
                <a:latin typeface="Times New Roman"/>
              </a:rPr>
              <a:t>Что является объектом налогообложения для плательщ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расходы работодателя, выплачиваемые работникам- резидентам в виде до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алименты на детей и иждивен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диновременные выплаты из государственного бюдже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социальные выплаты граждан, пострадавших вследствие экологического б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адресная социальная помощь, пособия и компен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счисление социального налога произ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ежекварт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ежего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жедека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еженед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ежемесяч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Times New Roman"/>
              </a:rPr>
              <a:t>Декларация по социальному налогу предоста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)  не позднее 5  числа месяца, следующего за кварт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) не позднее 20  числа месяца, следующего за кварт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) не позднее 5 числа месяца, следующего за отчетным год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</a:rPr>
              <a:t>не поздне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</a:rPr>
              <a:t>числа второго месяца, следующего за отчетным кварталом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) в люб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Чему будет равна ставка социального нало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) 13 %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) 15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) 11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Д) 9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) 5 %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9:49Z</dcterms:created>
  <dc:creator>User</dc:creator>
  <dc:description/>
  <dc:language>en-US</dc:language>
  <cp:lastModifiedBy>к</cp:lastModifiedBy>
  <dcterms:modified xsi:type="dcterms:W3CDTF">2010-06-18T03:10:27Z</dcterms:modified>
  <cp:revision>8</cp:revision>
  <dc:subject/>
  <dc:title>Социальный налог</dc:title>
</cp:coreProperties>
</file>